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45E-8EA2-43C2-8837-DE95F547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AFA-C0F1-4222-A617-D3490066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EB9-7E7D-410E-A024-92502806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C66-2CB5-4F13-AF37-79D9E390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0A7-A8B4-403B-A56D-1F20C0C6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510-668F-4EE3-BAD0-C23A3DA7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4BA-D824-4E1E-BC15-3A6D13B6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994-1B83-44DA-87F0-AE3BDB9B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6B3-F725-4E9B-B4AA-D3DCC96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D77-57E4-4C67-BDCA-8076F2B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A2B-14D9-48C6-85BA-10AE4EB1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A1A-4115-43A5-B077-06001500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4E0C-1E5B-49A9-AEB7-F95D20AB9EF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9 Deň čo d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stále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stále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pre teba len t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áchrana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á, istá, i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stále hľaď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z lásky k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mieral sám Syn Bož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sám, tak sám, tak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láskavý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ríža hriešnika č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í, teší, teš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za teba náš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 svoju svät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lial, vylial, vy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5-15T07:08:08Z</dcterms:modified>
  <cp:revision>33</cp:revision>
  <dc:subject/>
  <dc:title>Je veľký náš Pán, on slávy je Kráľ Nech do všetkých strán  spev vrúcnych znie chvál.</dc:title>
</cp:coreProperties>
</file>